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257F-4576-4016-8ADC-7F73247750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elicit corrections post-task. The debates could be recorded / filmed for later feedback. Or each group could have a “secretary” to tak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D3D7-C08A-49A8-B2CD-5B019D17FF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“pre-lesson” homework should take 20 – 40 mins, and learners can, of course, go at their own pace and look up as many words / phrases as they like. This could be posted on-line or on a college / school moodle for learners to access before the lesson (see “flipped learning” eg at : http://www.knewton.com/flipped-classroom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B2F7-9967-4610-B926-DF1032746D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could take 2 – 3 hrs: Speaking: 10 – 20 mins; Reading 10 – 20 mins; Vocabulary: 20 – 40 mins; Number work: 20 – 30 mins; Speaking: 20 – 40 mins; Writing: 30 – 4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80A7-7A7B-44E5-8B06-6ECB6DEF6A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mpare the problems they’ve listed from the reading 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1EAE-041E-4B7F-8404-AB0B20FBDF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heck meanings in small groups / with dictionaries, and then discuss possible reasons for these problems. The teacher can monitor for errors and do post-task error cor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9501-FE75-4AD9-8130-4C8B9A4585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have access to computers / tablets, they can read on-line. Otherwise, the teacher can print out this second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9883-19A3-4F06-9481-07FE12DB8F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, guide and check understanding, especially when learners present their words to the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9F5B-9CE6-4D2F-94A8-EC61A69110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e article for scales: http://eewiki.newint.org/index.php/The_girls_are_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9E72-64CB-407E-940A-FBCB3D4A87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make bar charts on paper or on computers if they have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7F5D-B8D8-4852-9185-6E0DFFAC61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5A2-5344-460C-BF22-B989AE04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6F31-89B8-44DA-B046-FD5049E8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90C-24CF-4123-BCE7-F76262B8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14F5-416E-44CF-92E1-AB2B544B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F9BE-A2B1-447E-B211-D002CC9F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41C3-2616-4205-997B-154A4ED1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CC20-858A-4A00-A0B4-4EB29556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4495-C8FA-4A19-A3B4-BD0CE457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F3D-7A90-4A31-B843-574D7279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C39-2202-4654-801B-62F4D3AB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FF7-0C7B-478E-9131-9940FEAF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1B7-09F6-4622-B360-C0C4F03C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AC17-540A-48AF-AB96-4F7E13AC237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o_gir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40000" y="2636640"/>
            <a:ext cx="6408720" cy="19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No girl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898989"/>
                </a:solidFill>
                <a:latin typeface="Calibri"/>
              </a:rPr>
              <a:t>NEW INTERNATIONALIST  EASIER ENGLISH UPPER INTERMEDIATE READY LES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898989"/>
                </a:solidFill>
                <a:latin typeface="Calibri"/>
              </a:rPr>
              <a:t>(example of a “flipped” less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563920" cy="36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111480" y="692280"/>
            <a:ext cx="6016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1267920"/>
            <a:ext cx="8663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Prepare in pairs for a balanced deb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can we do about the gender imbalance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notes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sons for these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In small groups, have a formal deb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292720" y="2997360"/>
            <a:ext cx="36212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28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the same groups, write a letter to the United Na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e the problems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clude and explain your bar graphs, 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 possib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826240" y="4437000"/>
            <a:ext cx="291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Learner preparation for the less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Easier English article “No girls”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No_gir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(and list) all the proble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Read the original article, by clicking on the link at the bottom – or here: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girls-not-allowed-keynote/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ote down 3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ew word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r phr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/ Watch this youtube clip on how to draw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bar graph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ww.youtube.com/watch?v=0q_9VmQZ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41300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0000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discuss artic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70c0"/>
                </a:solidFill>
                <a:latin typeface="Calibri"/>
              </a:rPr>
              <a:t>Read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bout solu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2d050"/>
                </a:solidFill>
                <a:latin typeface="Calibri"/>
              </a:rPr>
              <a:t>Vocabular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teach each o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7030a0"/>
                </a:solidFill>
                <a:latin typeface="Calibri"/>
              </a:rPr>
              <a:t>Numerac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bar 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deb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group let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discu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are the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from the text you re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8680" y="3716280"/>
            <a:ext cx="406728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21956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219560" y="3500280"/>
            <a:ext cx="47260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are these problems? And 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y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do they exist?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fantic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egl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ex-selective abor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ffic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hild marri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idn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iol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ang r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en without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ditional view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the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solution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think of / predict some solutions, then rea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ttp://eewiki.newint.org/index.php/The_girls_are_b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 find more solution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ster readers can then read the original to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the-girls-are-back-in-tow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84720" y="3357720"/>
            <a:ext cx="2702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In groups,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vocabulary / phrases you found from the texts before the less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plain / discus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meanings, and look at them in the texts (in both the original and the Easier English artic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Each group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es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3 new words / phrases to the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778360" y="4653000"/>
            <a:ext cx="29671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umerac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es this graph s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814320" y="2357280"/>
            <a:ext cx="624996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make a bar chart to show this information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191628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Normally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5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are born for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 But because of all the change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7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is now the world average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China is the worst, they have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8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born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; India has a national average of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1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. Azerbaijan, has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6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3" descr=""/>
          <p:cNvPicPr/>
          <p:nvPr/>
        </p:nvPicPr>
        <p:blipFill>
          <a:blip r:embed="rId1"/>
          <a:stretch/>
        </p:blipFill>
        <p:spPr>
          <a:xfrm>
            <a:off x="6753240" y="714240"/>
            <a:ext cx="1925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5:11:36Z</dcterms:created>
  <dc:creator>Linda Ruas</dc:creator>
  <dc:description/>
  <dc:language>en-US</dc:language>
  <cp:lastModifiedBy>Linda Ruas</cp:lastModifiedBy>
  <dcterms:modified xsi:type="dcterms:W3CDTF">2013-11-02T22:35:56Z</dcterms:modified>
  <cp:revision>15</cp:revision>
  <dc:subject/>
  <dc:title>No more girls</dc:title>
</cp:coreProperties>
</file>